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1E2-4891-4BDF-A1DA-F9019BB7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F46-B2DA-44E9-A2A1-58C148E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070-E439-442F-B99D-D81982C5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B79-0C2A-4B49-9FA8-6C4CE9CE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DEB-9FB5-46A6-B110-1446AE8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87E-D344-43E6-8552-EF9624B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997-62C2-4ECC-8AFA-0E4D0A0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49D-E84E-4FFC-81B0-B58FA1A0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58B-D086-4C5A-98A0-20DFAEE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4B8-AC3B-40D8-B9CB-4B60E0B5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9ED-96FA-46B1-B84D-6BF05ED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233-1E1F-4FA7-AD67-C5AF447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A80D-C2B9-4174-BFBD-5B5EB3053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22400" y="789120"/>
            <a:ext cx="709920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4720" y="789120"/>
            <a:ext cx="705312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89000" y="822240"/>
            <a:ext cx="6964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9000" y="844560"/>
            <a:ext cx="69645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28720"/>
            <a:ext cx="70088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9000" y="782640"/>
            <a:ext cx="69645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82640"/>
            <a:ext cx="70088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9000" y="833400"/>
            <a:ext cx="696456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77960"/>
            <a:ext cx="7008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71480"/>
            <a:ext cx="700884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30:02Z</dcterms:created>
  <dc:creator>bealst</dc:creator>
  <dc:description/>
  <dc:language>en-US</dc:language>
  <cp:lastModifiedBy>jayoig</cp:lastModifiedBy>
  <dcterms:modified xsi:type="dcterms:W3CDTF">2011-05-06T17:59:41Z</dcterms:modified>
  <cp:revision>2</cp:revision>
  <dc:subject/>
  <dc:title>Slide 1</dc:title>
</cp:coreProperties>
</file>